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2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4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CE46-8A55-4A0C-977D-5C8FBAF11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投影片編號版面配置區 3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59C8-994C-4C21-83C0-D88FC8CF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35C-B201-434E-ABB0-6B505062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12B4-CB0E-400B-A56C-7FDC706D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E5C-ACFE-4981-B74E-4523AC10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9640" y="389340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A5D-F8D6-494A-9331-FB05ECBD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412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0D4-42E5-417A-8D40-11E57F3C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872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780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9964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872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780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066-BF5B-4FAC-9215-D39E6CBF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8A8B8-5BED-4F20-AAE1-81A88D461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09818-3EBD-4DFA-A95D-A7710CF0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F7E84-3740-46C8-86D8-1979883A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C90DE-58B3-4AD0-B42C-56050DDD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D7F5B-CD12-49AD-932B-79FB3F06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91920" y="260280"/>
            <a:ext cx="755172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B230A-54D6-4584-8DC2-CE40F080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6AAC1-8BCC-4D3E-9821-C9C4A7E7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E37-41A4-418C-BB3D-A0F62BB3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412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7527C-377C-400F-BBF6-7714D49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0FAFB-17D9-4DB3-9D6D-BE6A45D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99640" y="389340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A8768-486F-46CA-AFFB-19EF5AF6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412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3FECC-F21F-4A20-ADA1-DE2EAB37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2872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5780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9964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2872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5780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8973F-51F0-4986-86B6-569D9F1349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D0271-A5A5-496C-97F7-7ED329BD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4DD99-BEAB-4CAB-A9C4-2E13CC4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0B636-8CD8-4BBE-B7D1-368FFF65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25A09-20F3-4EBB-9AA4-E28F4630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6111C-A730-4224-BD85-49159C77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CD6-303A-4087-ADDA-E6B54DC8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91920" y="260280"/>
            <a:ext cx="755172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1151A-DA27-4385-9A4D-7307E8C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7CCF8-F191-4EEA-9944-33344CD0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8412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3FDD2-872A-4FB3-8ACD-B679C03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F72F8-2EB4-4F6A-878A-8C25DC1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99640" y="389340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FD524-6632-4F2A-9AFF-49359E9F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8412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E5025-1040-47FE-BC83-82B25EFE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2872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5780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9964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2872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5780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119C0-7012-48C4-B894-84AEDBBB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8DAE7-DAF1-4B4A-AAEA-6BA5D3CD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F0F2A-FF6C-46D1-A248-02A27532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12ACB-22B6-4730-AAAC-CFB4F75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0F7-0312-4351-B30B-77F2E530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6A240-E5FE-4E73-B0D9-88319134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D4458-0EF4-4DFF-A717-E8DACA5D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591920" y="260280"/>
            <a:ext cx="755172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8C344-F2E0-43CF-900B-2DE2C269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58A69-4602-41ED-BCFA-454D8752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8412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A49BD-3D11-4CB7-95AE-BAEB705B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E2BF8-22C4-4613-A4BF-2222AE5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99640" y="389340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3DBB8-4A45-42F9-A04B-6C19929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8412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01CC4-D97D-461C-8FAF-2E2AE8F3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2872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57800" y="148428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9964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2872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57800" y="3893400"/>
            <a:ext cx="25034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833E1-F4EA-4EBC-A19A-E3982C8B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70E-2C63-4C24-994D-A1AC2A0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91920" y="260280"/>
            <a:ext cx="755172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66F-0BFD-41AE-A254-07E98096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0AA-71B4-44E4-A14E-814D643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4120" y="389340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A85-98F4-4ED6-8F39-BD85B910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4120" y="1484280"/>
            <a:ext cx="379440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99640" y="3893400"/>
            <a:ext cx="7775640" cy="219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857-5AAC-4DBD-A9EE-649BABE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55da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555d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3640" y="6572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83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3399"/>
                </a:solidFill>
                <a:latin typeface="Tahom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213D-1AD0-4AA7-B3F3-812FDF64F631}" type="slidenum">
              <a:rPr b="1" lang="en-US" sz="1300" spc="-1" strike="noStrike">
                <a:solidFill>
                  <a:srgbClr val="003399"/>
                </a:solidFill>
                <a:latin typeface="Tahoma"/>
                <a:ea typeface="標楷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568520" y="6642000"/>
            <a:ext cx="66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2024 Computer Center, National Centra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WordArt 8"/>
          <p:cNvSpPr txBox="1"/>
          <p:nvPr/>
        </p:nvSpPr>
        <p:spPr>
          <a:xfrm>
            <a:off x="324000" y="404640"/>
            <a:ext cx="6602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4646c2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NCU/SRC</a:t>
            </a:r>
            <a:endParaRPr b="1" lang="en-US" sz="1200" spc="1" strike="noStrike">
              <a:ln w="9360">
                <a:solidFill>
                  <a:srgbClr val="000080"/>
                </a:solidFill>
                <a:miter/>
              </a:ln>
              <a:solidFill>
                <a:srgbClr val="4646c2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7667640" cy="174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3" descr="logo07"/>
          <p:cNvPicPr/>
          <p:nvPr/>
        </p:nvPicPr>
        <p:blipFill>
          <a:blip r:embed="rId3"/>
          <a:stretch/>
        </p:blipFill>
        <p:spPr>
          <a:xfrm>
            <a:off x="0" y="0"/>
            <a:ext cx="13050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logo07"/>
          <p:cNvPicPr/>
          <p:nvPr/>
        </p:nvPicPr>
        <p:blipFill>
          <a:blip r:embed="rId3"/>
          <a:stretch/>
        </p:blipFill>
        <p:spPr>
          <a:xfrm>
            <a:off x="0" y="765000"/>
            <a:ext cx="2900520" cy="2978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55da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555d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016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70200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F539-A493-408C-B3B5-4572E05F5C2F}" type="slidenum">
              <a:rPr b="1" lang="en-US" sz="13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1568520" y="6642000"/>
            <a:ext cx="66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2024 Computer Center, National Centra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324000" y="404640"/>
            <a:ext cx="6602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4646c2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NCU/SRC</a:t>
            </a:r>
            <a:endParaRPr b="1" lang="en-US" sz="1200" spc="1" strike="noStrike">
              <a:ln w="9360">
                <a:solidFill>
                  <a:srgbClr val="000080"/>
                </a:solidFill>
                <a:miter/>
              </a:ln>
              <a:solidFill>
                <a:srgbClr val="4646c2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7667640" cy="174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logo07"/>
          <p:cNvPicPr/>
          <p:nvPr/>
        </p:nvPicPr>
        <p:blipFill>
          <a:blip r:embed="rId3"/>
          <a:stretch/>
        </p:blipFill>
        <p:spPr>
          <a:xfrm>
            <a:off x="0" y="0"/>
            <a:ext cx="1305000" cy="1341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55da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555d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323640" y="6572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3200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9483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3399"/>
                </a:solidFill>
                <a:latin typeface="Tahom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D645-BB43-4648-998D-D847918F8E0E}" type="slidenum">
              <a:rPr b="1" lang="en-US" sz="1300" spc="-1" strike="noStrike">
                <a:solidFill>
                  <a:srgbClr val="003399"/>
                </a:solidFill>
                <a:latin typeface="Tahoma"/>
                <a:ea typeface="標楷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1568520" y="6642000"/>
            <a:ext cx="66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2024 Computer Center, National Centra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324000" y="404640"/>
            <a:ext cx="6602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4646c2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NCU/SRC</a:t>
            </a:r>
            <a:endParaRPr b="1" lang="en-US" sz="1200" spc="1" strike="noStrike">
              <a:ln w="9360">
                <a:solidFill>
                  <a:srgbClr val="000080"/>
                </a:solidFill>
                <a:miter/>
              </a:ln>
              <a:solidFill>
                <a:srgbClr val="4646c2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7667640" cy="17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logo07"/>
          <p:cNvPicPr/>
          <p:nvPr/>
        </p:nvPicPr>
        <p:blipFill>
          <a:blip r:embed="rId3"/>
          <a:stretch/>
        </p:blipFill>
        <p:spPr>
          <a:xfrm>
            <a:off x="0" y="0"/>
            <a:ext cx="1305000" cy="1341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55da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555d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323640" y="6572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9483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3399"/>
                </a:solidFill>
                <a:latin typeface="Tahom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932E-52FE-4DA1-98D4-1D95F880A466}" type="slidenum">
              <a:rPr b="1" lang="en-US" sz="1300" spc="-1" strike="noStrike">
                <a:solidFill>
                  <a:srgbClr val="003399"/>
                </a:solidFill>
                <a:latin typeface="Tahoma"/>
                <a:ea typeface="標楷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70200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967-DEBA-458A-AFC1-871FEF9C835A}" type="slidenum">
              <a:rPr b="1" lang="en-US" sz="1300" spc="-1" strike="noStrike">
                <a:solidFill>
                  <a:srgbClr val="3333cc"/>
                </a:solidFill>
                <a:latin typeface="Tahoma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71280" y="1720440"/>
            <a:ext cx="637380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4400" spc="-1" strike="noStrike">
                <a:solidFill>
                  <a:srgbClr val="003399"/>
                </a:solidFill>
                <a:latin typeface="Tahoma"/>
              </a:rPr>
              <a:t>公共區域監視系統</a:t>
            </a:r>
            <a:br>
              <a:rPr sz="4400"/>
            </a:br>
            <a:r>
              <a:rPr b="1" lang="zh-TW" sz="4400" spc="-1" strike="noStrike">
                <a:solidFill>
                  <a:srgbClr val="003399"/>
                </a:solidFill>
                <a:latin typeface="Tahoma"/>
              </a:rPr>
              <a:t>及舊智慧電表</a:t>
            </a:r>
            <a:r>
              <a:rPr b="1" lang="en-US" sz="4400" spc="-1" strike="noStrike">
                <a:solidFill>
                  <a:srgbClr val="003399"/>
                </a:solidFill>
                <a:latin typeface="Tahoma"/>
              </a:rPr>
              <a:t>ip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771280" y="3860640"/>
            <a:ext cx="6178680" cy="8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rebuchet MS"/>
              </a:rPr>
              <a:t>電算中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一一三年五月十四日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5"/>
          <p:cNvSpPr/>
          <p:nvPr/>
        </p:nvSpPr>
        <p:spPr>
          <a:xfrm>
            <a:off x="69483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0566-F3A3-43E9-9289-E0B3BA324534}" type="slidenum">
              <a:rPr b="1" lang="en-US" sz="1300" spc="-1" strike="noStrike">
                <a:solidFill>
                  <a:srgbClr val="003399"/>
                </a:solidFill>
                <a:latin typeface="Tahoma"/>
                <a:ea typeface="標楷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99"/>
                </a:solidFill>
                <a:latin typeface="Tahoma"/>
              </a:rPr>
              <a:t>公共區域監視系統</a:t>
            </a:r>
            <a:endParaRPr b="1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775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lan 107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2.23.0.0/1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539640" y="4292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中央大學公共區域監視系統，協助網路規劃及設置。集中點骨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witch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共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9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棟館舍、攝影機及緊急求救共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86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  <a:ea typeface="新細明體"/>
              </a:rPr>
              <a:t>單位攝影機尚未設成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vlan 107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  <a:ea typeface="新細明體"/>
              </a:rPr>
              <a:t>的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ip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  <a:ea typeface="新細明體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  <a:ea typeface="新細明體"/>
              </a:rPr>
              <a:t>校長宿舍、客家學院、運動中心、溜冰場、能源屋、依仁堂、電機系、產學中心、後門崗哨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(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  <a:ea typeface="新細明體"/>
              </a:rPr>
              <a:t>部分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)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  <a:ea typeface="新細明體"/>
              </a:rPr>
              <a:t>、游泳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圖片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81280" cy="1922400"/>
          </a:xfrm>
          <a:prstGeom prst="rect">
            <a:avLst/>
          </a:prstGeom>
          <a:ln w="0">
            <a:noFill/>
          </a:ln>
        </p:spPr>
      </p:pic>
      <p:pic>
        <p:nvPicPr>
          <p:cNvPr id="191" name="圖片 6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36576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投影片編號版面配置區 5"/>
          <p:cNvSpPr/>
          <p:nvPr/>
        </p:nvSpPr>
        <p:spPr>
          <a:xfrm>
            <a:off x="69483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3801-4380-43ED-BFDC-C51EF1391905}" type="slidenum">
              <a:rPr b="1" lang="en-US" sz="1300" spc="-1" strike="noStrike">
                <a:solidFill>
                  <a:srgbClr val="003399"/>
                </a:solidFill>
                <a:latin typeface="Tahoma"/>
                <a:ea typeface="標楷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7551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99"/>
                </a:solidFill>
                <a:latin typeface="Tahoma"/>
              </a:rPr>
              <a:t>公共區域監視系統</a:t>
            </a:r>
            <a:endParaRPr b="1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9640" y="1628640"/>
          <a:ext cx="1325520" cy="4611960"/>
        </p:xfrm>
        <a:graphic>
          <a:graphicData uri="http://schemas.openxmlformats.org/drawingml/2006/table">
            <a:tbl>
              <a:tblPr/>
              <a:tblGrid>
                <a:gridCol w="1325520"/>
              </a:tblGrid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中大牌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中大牌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4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5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6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7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8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前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資源回收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資源回收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資源回收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資源回收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資源回收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資源回收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6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校長宿舍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979640" y="1628640"/>
          <a:ext cx="1325520" cy="4611960"/>
        </p:xfrm>
        <a:graphic>
          <a:graphicData uri="http://schemas.openxmlformats.org/drawingml/2006/table">
            <a:tbl>
              <a:tblPr/>
              <a:tblGrid>
                <a:gridCol w="1325520"/>
              </a:tblGrid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校長宿舍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九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3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車庫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車庫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百花北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綜教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綜教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科二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(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施工未裝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健雄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健雄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健雄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健雄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健雄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健雄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客家學院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客家學院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客家學院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3(</a:t>
                      </a: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故障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運動中心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溜冰場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419640" y="1625760"/>
          <a:ext cx="1325520" cy="4611600"/>
        </p:xfrm>
        <a:graphic>
          <a:graphicData uri="http://schemas.openxmlformats.org/drawingml/2006/table">
            <a:tbl>
              <a:tblPr/>
              <a:tblGrid>
                <a:gridCol w="1325520"/>
              </a:tblGrid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溜冰場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運動中心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大型力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大型力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大型力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機電實驗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能源屋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五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新村三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新村三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新村三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新村三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新村三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依仁堂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依仁堂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依仁堂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依仁堂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依仁堂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5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依仁堂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6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依仁堂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7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依仁堂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女一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859280" y="1628640"/>
          <a:ext cx="1325520" cy="4611960"/>
        </p:xfrm>
        <a:graphic>
          <a:graphicData uri="http://schemas.openxmlformats.org/drawingml/2006/table">
            <a:tbl>
              <a:tblPr/>
              <a:tblGrid>
                <a:gridCol w="1325520"/>
              </a:tblGrid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一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一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志道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志道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志道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電機系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產學中心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產學中心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15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後門崗哨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16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宵夜街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宵夜街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宵夜街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宵夜街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國際學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國際學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372360" y="1628640"/>
          <a:ext cx="1325520" cy="4611960"/>
        </p:xfrm>
        <a:graphic>
          <a:graphicData uri="http://schemas.openxmlformats.org/drawingml/2006/table">
            <a:tbl>
              <a:tblPr/>
              <a:tblGrid>
                <a:gridCol w="1325520"/>
              </a:tblGrid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五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五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五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五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百花圖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百花工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百花壘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百花太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十三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十三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十三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十三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十三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十三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男十三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37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3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4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40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五興路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7885080" y="1628640"/>
          <a:ext cx="1103400" cy="4611960"/>
        </p:xfrm>
        <a:graphic>
          <a:graphicData uri="http://schemas.openxmlformats.org/drawingml/2006/table">
            <a:tbl>
              <a:tblPr/>
              <a:tblGrid>
                <a:gridCol w="1103400"/>
              </a:tblGrid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曦望居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6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女一舍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四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6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人文測速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地科測速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健雄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中大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7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北村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工五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宵夜街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7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遊藝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男十三舍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後門警衛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7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身障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男十二舍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女一舍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6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綜教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中大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中大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K</a:t>
                      </a: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書中心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7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游泳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機械工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運動場前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7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運動場旁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緊急求救依仁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9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地科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7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電機系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國鼎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志希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6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科二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5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科二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科五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6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游泳池</a:t>
                      </a:r>
                      <a:r>
                        <a:rPr b="0" lang="en-US" sz="700" spc="-1" strike="noStrike">
                          <a:solidFill>
                            <a:srgbClr val="ff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新村一區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9483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ADD6-7830-4BC1-976E-44E7A5627693}" type="slidenum">
              <a:rPr b="1" lang="en-US" sz="1300" spc="-1" strike="noStrike">
                <a:solidFill>
                  <a:srgbClr val="003399"/>
                </a:solidFill>
                <a:latin typeface="Tahoma"/>
                <a:ea typeface="標楷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69404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99"/>
                </a:solidFill>
                <a:latin typeface="Tahoma"/>
              </a:rPr>
              <a:t>舊智慧電表</a:t>
            </a: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ip</a:t>
            </a:r>
            <a:endParaRPr b="1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4360" y="1557360"/>
          <a:ext cx="2592360" cy="4611600"/>
        </p:xfrm>
        <a:graphic>
          <a:graphicData uri="http://schemas.openxmlformats.org/drawingml/2006/table">
            <a:tbl>
              <a:tblPr/>
              <a:tblGrid>
                <a:gridCol w="917280"/>
                <a:gridCol w="1675080"/>
              </a:tblGrid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tatu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9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3.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9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9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人社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B1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變電站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9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文二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B1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變電站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83.1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行政大樓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B1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變電站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3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3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3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3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14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G14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B1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變電站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40.115.48.2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83.1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83.1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83.1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83.1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83.1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8.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8.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8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8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9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40.115.84.2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492360" y="1557360"/>
          <a:ext cx="1916280" cy="4611600"/>
        </p:xfrm>
        <a:graphic>
          <a:graphicData uri="http://schemas.openxmlformats.org/drawingml/2006/table">
            <a:tbl>
              <a:tblPr/>
              <a:tblGrid>
                <a:gridCol w="763560"/>
                <a:gridCol w="1152720"/>
              </a:tblGrid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ar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12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01.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02.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02.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02.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02.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02.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12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6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7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09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0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3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9.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B12</a:t>
                      </a: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舍空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9.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12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200.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200.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3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17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3.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12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3.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3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3.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0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國鼎光電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+</a:t>
                      </a: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客家學院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客家學院大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40.115.153.1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電機三館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40.115.153.1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12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40.115.153.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6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6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5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程四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(</a:t>
                      </a: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環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6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12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8.12.2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大型力學實驗室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6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26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6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196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2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80000" y="1557360"/>
          <a:ext cx="2232000" cy="1523880"/>
        </p:xfrm>
        <a:graphic>
          <a:graphicData uri="http://schemas.openxmlformats.org/drawingml/2006/table">
            <a:tbl>
              <a:tblPr/>
              <a:tblGrid>
                <a:gridCol w="1152720"/>
                <a:gridCol w="1079280"/>
              </a:tblGrid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k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6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一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1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綜教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3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4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光電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90.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580000" y="3357720"/>
          <a:ext cx="2411640" cy="2476440"/>
        </p:xfrm>
        <a:graphic>
          <a:graphicData uri="http://schemas.openxmlformats.org/drawingml/2006/table">
            <a:tbl>
              <a:tblPr/>
              <a:tblGrid>
                <a:gridCol w="1548000"/>
                <a:gridCol w="863640"/>
              </a:tblGrid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t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01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14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6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9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1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B1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3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B1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5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B5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20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40.115.31.2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9483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E090-D15E-4978-BDD4-28827376F456}" type="slidenum">
              <a:rPr b="1" lang="en-US" sz="1300" spc="-1" strike="noStrike">
                <a:solidFill>
                  <a:srgbClr val="003399"/>
                </a:solidFill>
                <a:latin typeface="Tahoma"/>
                <a:ea typeface="標楷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1920" y="260280"/>
            <a:ext cx="69404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99"/>
                </a:solidFill>
                <a:latin typeface="Tahoma"/>
              </a:rPr>
              <a:t>舊智慧電表</a:t>
            </a: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ip</a:t>
            </a:r>
            <a:endParaRPr b="1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1628640"/>
          <a:ext cx="3505320" cy="1028880"/>
        </p:xfrm>
        <a:graphic>
          <a:graphicData uri="http://schemas.openxmlformats.org/drawingml/2006/table">
            <a:tbl>
              <a:tblPr/>
              <a:tblGrid>
                <a:gridCol w="1397160"/>
                <a:gridCol w="2108160"/>
              </a:tblGrid>
              <a:tr h="206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st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44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6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40.115.31.2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4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40.115.31.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4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國鼎光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643280" y="1628640"/>
          <a:ext cx="3505320" cy="2057400"/>
        </p:xfrm>
        <a:graphic>
          <a:graphicData uri="http://schemas.openxmlformats.org/drawingml/2006/table">
            <a:tbl>
              <a:tblPr/>
              <a:tblGrid>
                <a:gridCol w="1397160"/>
                <a:gridCol w="2108160"/>
              </a:tblGrid>
              <a:tr h="206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pac3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44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13.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4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4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13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3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7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電機三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4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83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管二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90.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文二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4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200.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17.9.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755640" y="2924280"/>
          <a:ext cx="3505320" cy="617400"/>
        </p:xfrm>
        <a:graphic>
          <a:graphicData uri="http://schemas.openxmlformats.org/drawingml/2006/table">
            <a:tbl>
              <a:tblPr/>
              <a:tblGrid>
                <a:gridCol w="1397160"/>
                <a:gridCol w="2108160"/>
              </a:tblGrid>
              <a:tr h="206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e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4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6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172.20.51.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工五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11" name="Text Box 6"/>
          <p:cNvSpPr/>
          <p:nvPr/>
        </p:nvSpPr>
        <p:spPr>
          <a:xfrm>
            <a:off x="684360" y="407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以上前頁及本業表格中第二欄位有註明地點者為目前有通的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ip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，建議可以查詢後移除或斷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投影片編號版面配置區 4"/>
          <p:cNvSpPr/>
          <p:nvPr/>
        </p:nvSpPr>
        <p:spPr>
          <a:xfrm>
            <a:off x="69483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3FE5-E738-4D14-B742-1C5B24C80834}" type="slidenum">
              <a:rPr b="1" lang="en-US" sz="1300" spc="-1" strike="noStrike">
                <a:solidFill>
                  <a:srgbClr val="003399"/>
                </a:solidFill>
                <a:latin typeface="Tahoma"/>
                <a:ea typeface="標楷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738680" y="2852640"/>
            <a:ext cx="397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Tahoma"/>
                <a:ea typeface="標楷體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j0301252"/>
          <p:cNvPicPr/>
          <p:nvPr/>
        </p:nvPicPr>
        <p:blipFill>
          <a:blip r:embed="rId1"/>
          <a:stretch/>
        </p:blipFill>
        <p:spPr>
          <a:xfrm>
            <a:off x="1476360" y="2349360"/>
            <a:ext cx="4105440" cy="351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title(2)"/>
          <p:cNvPicPr/>
          <p:nvPr/>
        </p:nvPicPr>
        <p:blipFill>
          <a:blip r:embed="rId2"/>
          <a:stretch/>
        </p:blipFill>
        <p:spPr>
          <a:xfrm>
            <a:off x="1403280" y="189000"/>
            <a:ext cx="774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8:18:40Z</dcterms:created>
  <dc:creator>Glenn Hsu</dc:creator>
  <dc:description/>
  <dc:language>en-US</dc:language>
  <cp:lastModifiedBy>Windows 使用者</cp:lastModifiedBy>
  <dcterms:modified xsi:type="dcterms:W3CDTF">2024-04-30T08:39:14Z</dcterms:modified>
  <cp:revision>888</cp:revision>
  <dc:subject/>
  <dc:title>IT Infrastructure</dc:title>
</cp:coreProperties>
</file>